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23DB8-ED79-4722-B13A-5E37F32E87E6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08E96-6DD8-41CD-94C7-8F87A02E1DF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D082A-0613-48E2-BB8A-B9DAD4914D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E5ECF-C853-4840-A0CE-915FB4230E0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E943C-F7AF-4918-8DFB-30D23DCED3D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FEC45-9EFE-49C9-B796-5A1D8F3C088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C0B87-B852-4B7A-978E-2E0DB612E2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58D8-1B78-4969-A80E-CF227B4CFDE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7A843-B8C2-4513-BA35-02B4B07CB72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4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31960-71A5-4BC0-AFD6-6F22A68912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E732-45FB-4672-BC95-4C8FA014525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DB655-9116-4C19-9148-6C1291690E3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5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09DF-D083-4EDF-AC8E-EF220182760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276F-97B4-4674-BDAF-164931152CC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453C-C24E-4271-9055-E445C1B13F1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3C0D0-59B7-47BB-9B4A-EB6FF1F4FB6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E39FA-0286-4473-9F57-081F66676A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835CC-14CB-4A7D-BB3C-0711E6947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D4515-8192-4BF6-8ACE-5426A5B8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343D-E71C-4BE8-895A-BE0A4CFBA6A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9F61-5C10-4B3E-808C-44B0B90EE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A7D67-9E3C-42A8-BF89-2C4056E10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1037-06D2-4B2D-B7EF-F4F9E50F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4B5B-341D-4CD0-A2B1-FFCCDDE99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C1481-68E1-4ECE-AB63-EBD6FD555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5A84C-55AE-4DAE-B3B1-9199D7A6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DC48A-D089-4EFE-8505-6AEBF545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281F9-8BF9-41D2-9972-3C20172C6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0E15-3E08-4569-A1E3-E66B37C6258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副瘤综合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少数肺癌病例，由于癌肿产生内分泌物质，出现肺部以外非转移性全身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磁共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电子发射型计算机断层显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超声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扫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理学检查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痰细胞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纵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内超声引导针吸活检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积液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经胸壁针吸细胞学或组织学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腔镜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吸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职业致癌因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污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人体内在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叶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lob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楔形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edge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段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egmental resec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肺切除术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neumonectom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免疫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明确诊断为中央型鳞癌，给予紫杉醇与顺铂联合术前化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周期后，患者一般状况良好，行一侧全肺切除和淋巴结清扫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术后应如何进行呼吸道护理？全肺切除术后胸腔引流管有哪些护理要点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焦虑与恐惧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缺乏相关知识及担心手术和预后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肺组织病变、手术、麻醉、肿瘤阻塞支气管、肺膨胀不全、呼吸道分泌物潴留、肺换气功能降低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手术、肿瘤压迫周围及组织浸润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与肿瘤引起的机体代谢增加、手术创伤等有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、肺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心律失常、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戒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前指导：腹式呼吸、有效咳嗽、胸管相关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营养状况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复述肺癌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简述肺癌临床表现和辅助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总结肺癌常见的与疾病相关的健康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正确运用护理程序评估肺癌患者，进行护理诊断，制订护理计划，提供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采取合适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给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深呼吸和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稀释痰液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腔闭式引流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液体平衡和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控制输液的量和速度，防止导致肺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与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臂和肩关节运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肺不张、肺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支气管胸膜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出院后数星期内，仍需进行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告知患者预防呼吸道感染的重要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化疗或放疗注意事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良好的营养状况及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认为长期大量吸烟是肺癌重要致病因素，另外还与职业致癌因素、人体免疫状态、代谢状态、遗传等因素相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刺激性咳嗽、痰中带血、胸痛、发热、气促是主要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对肺癌主要采取以外科手术为主的综合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围术期护理应以呼吸道的管理为重点，术后应注意引流管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刺激性干咳，偶有少量咯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，近日出现胸痛入院。诊断为右上肺叶肺癌。昨日在全麻下行右肺上叶切除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患者目前可能出现的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是什么？目前护理重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因右上肺叶肺癌行肺叶切除术，今日为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可能出现疼痛（与开胸手术有关）、肺不张（与胸膜腔完整性破坏有关）、潜在并发症（出血）等护理诊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应严密观察病情，包括生命体征、引流等情况，及时发现出血等并发症；做好呼吸道护理，鼓励患者咳嗽、深呼吸，保持呼吸道通畅；缓解疼痛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诊断肺癌最常见的检查手段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RI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细胞学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早期肺癌的综合治疗中主要的治疗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放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化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免疫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中医中药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关于胸部手术后护理，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生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避免深呼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常规供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协助排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lung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数起源于支气管黏膜上皮，也称支气管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onchopulmonary carcino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的常见的转移途径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蔓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脱落细胞种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淋巴转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蔓延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最常见的症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量多、色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咳嗽、痰中偶带血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痛、胸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消瘦乏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声音嘶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早期中心型肺癌诊断率最高的检查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胸腔积液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纵隔镜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转移灶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支气管镜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经胸壁穿刺活组织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化疗较敏感的肺癌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腺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小细胞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大细胞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鳞腺混合癌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肺癌手术后的护理重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营养支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呼吸道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循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预防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镇静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肺切除术后患者输液过程中突然出现呼吸困难，气促咳嗽，咳粉红色泡沫痰，提示患者发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不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内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心律失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肺栓塞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A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D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   7.C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.B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9.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on-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N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鳞状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quamous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腺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deno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大细胞癌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large cell carcinom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细胞肺癌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mall cell lung cancer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CL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转移方式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接扩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淋巴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行转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低热、咳嗽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，痰中带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，痰量不多，白色泡沫状，无胸痛，无发热。曾服止咳糖浆和麦迪霉素等药，症状未减轻。既往有慢性支气管炎病史，吸烟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无肿瘤家族史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双侧颈后可触及多个可活动之淋巴结，右上肺可闻及支气管肺泡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右上肺云雾状阴影，边缘不整齐，形状不规则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此类患者的护理评估主要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早期肺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咳嗽：最常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闷和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身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或侵犯喉返神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压迫上腔静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犯胸膜或胸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侵入纵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上叶顶部肺癌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十七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肺癌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远处转移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淋巴结：锁骨上淋巴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骨骼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其他器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8:22Z</dcterms:modified>
  <cp:revision>86</cp:revision>
  <dc:subject/>
  <dc:title>内科护理学</dc:title>
</cp:coreProperties>
</file>